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87E-E832-4300-B5A8-6209BF2C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9CC-2733-41BC-BFFF-BC94B28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BEA-B98A-4632-80FD-D07BFAEF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60E-FB90-420E-8C68-87D08040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CC3A-1F31-4583-826B-244CF305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5B62-E0FA-479E-9EC9-A8A5457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1EAFD-B14F-4E97-98B2-3B45E78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F9B2-2479-4297-9129-DA97547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3B07-6DD1-4145-862A-BAB3F459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62BF-D65D-4AAF-B968-2222953F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F365A-A4E9-464A-A68C-E100184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639-F2FD-4534-A6BF-4F42E79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B2A02-AF91-4574-8B50-BBA7596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8D0BB-D05E-40BF-BD8F-E26132CB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B928-9ECC-4027-8AF8-375F8B2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3A1B9-EC50-4E9D-BB6D-E342BC12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0216-41B8-48EE-A5EF-8B922376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DFF-0F55-46FC-8DF8-BEF9848C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DC6-36BF-4106-9249-7431B22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2CC-0258-456D-A07D-4EAA065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F36-C442-4DC1-80A0-CA8C92CC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623-D8EC-44E8-BE06-F59C199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31C-E31C-4B7B-BEA5-3FB218E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A58-9E75-4D2A-B742-50AF59E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05D-8D92-4B0F-9B5B-935CD81A1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5E9-5528-4638-B5BA-3F44AAE0A94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AON2 nex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.E Campag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25/02/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085520" y="18900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322280" y="1833480"/>
            <a:ext cx="6778800" cy="3683160"/>
          </a:xfrm>
          <a:prstGeom prst="rect">
            <a:avLst/>
          </a:prstGeom>
          <a:ln w="0">
            <a:noFill/>
          </a:ln>
        </p:spPr>
      </p:pic>
      <p:sp>
        <p:nvSpPr>
          <p:cNvPr id="140" name="ZoneTexte 4"/>
          <p:cNvSpPr/>
          <p:nvPr/>
        </p:nvSpPr>
        <p:spPr>
          <a:xfrm>
            <a:off x="2896560" y="14130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it des visibilités Sun &amp; CygA tran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ZoneTexte 5"/>
          <p:cNvSpPr/>
          <p:nvPr/>
        </p:nvSpPr>
        <p:spPr>
          <a:xfrm>
            <a:off x="2043000" y="5877000"/>
            <a:ext cx="534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&lt;R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&gt; ~ 1.25m à comparer à 1.50m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geom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~ 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Mon point de v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Groupe 3"/>
          <p:cNvGrpSpPr/>
          <p:nvPr/>
        </p:nvGrpSpPr>
        <p:grpSpPr>
          <a:xfrm>
            <a:off x="1116000" y="1380960"/>
            <a:ext cx="6985080" cy="2578320"/>
            <a:chOff x="1116000" y="1380960"/>
            <a:chExt cx="6985080" cy="2578320"/>
          </a:xfrm>
        </p:grpSpPr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380960"/>
              <a:ext cx="698508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5"/>
            <p:cNvSpPr/>
            <p:nvPr/>
          </p:nvSpPr>
          <p:spPr>
            <a:xfrm>
              <a:off x="1247760" y="1812600"/>
              <a:ext cx="263520" cy="24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ZoneTexte 6"/>
          <p:cNvSpPr/>
          <p:nvPr/>
        </p:nvSpPr>
        <p:spPr>
          <a:xfrm>
            <a:off x="889560" y="1093680"/>
            <a:ext cx="52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/Science/31.05.12 et commentaires par P.C 6/06/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lèche droite rayée 7"/>
          <p:cNvSpPr/>
          <p:nvPr/>
        </p:nvSpPr>
        <p:spPr>
          <a:xfrm>
            <a:off x="108000" y="347040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826920" y="4005360"/>
            <a:ext cx="790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paraboles actuelles dupliquées apporteraient déjà beaucoup pour étude stabilité et développer nouvelle électroni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ût du réflecteur (1/1/2013) 1150 € HT/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ontage au LAL &amp; transport Nançay par le camion L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nutention in situ « à la main » sans trop d’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 besoin d’une préparation spéciale du terrain se pose, on voit ce que cela a déjà don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ouveau design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étude/réalisation fixation du f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ieds à fiabiliser et intégrer (si possible) une motorisation « Elévation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55680" y="3933720"/>
            <a:ext cx="3060720" cy="2924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400040" y="1413000"/>
            <a:ext cx="2667240" cy="244152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5"/>
          <p:cNvSpPr/>
          <p:nvPr/>
        </p:nvSpPr>
        <p:spPr>
          <a:xfrm>
            <a:off x="1907640" y="5157720"/>
            <a:ext cx="21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Noise fluct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4568760" y="3933720"/>
            <a:ext cx="2955960" cy="2862360"/>
          </a:xfrm>
          <a:prstGeom prst="rect">
            <a:avLst/>
          </a:prstGeom>
          <a:ln w="0">
            <a:noFill/>
          </a:ln>
        </p:spPr>
      </p:pic>
      <p:sp>
        <p:nvSpPr>
          <p:cNvPr id="154" name="Flèche droite 7"/>
          <p:cNvSpPr/>
          <p:nvPr/>
        </p:nvSpPr>
        <p:spPr>
          <a:xfrm>
            <a:off x="4208400" y="515772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lèche droite 8"/>
          <p:cNvSpPr/>
          <p:nvPr/>
        </p:nvSpPr>
        <p:spPr>
          <a:xfrm>
            <a:off x="4284720" y="2781360"/>
            <a:ext cx="503280" cy="4316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lèche droite 9"/>
          <p:cNvSpPr/>
          <p:nvPr/>
        </p:nvSpPr>
        <p:spPr>
          <a:xfrm rot="16200000">
            <a:off x="5901480" y="3392640"/>
            <a:ext cx="502920" cy="4320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2307240" y="2133720"/>
            <a:ext cx="1346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Sun tran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9 Oct 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6569640" y="1890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9.11.12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e 14"/>
          <p:cNvGrpSpPr/>
          <p:nvPr/>
        </p:nvGrpSpPr>
        <p:grpSpPr>
          <a:xfrm>
            <a:off x="5361120" y="2565360"/>
            <a:ext cx="1658880" cy="733320"/>
            <a:chOff x="5361120" y="2565360"/>
            <a:chExt cx="1658880" cy="733320"/>
          </a:xfrm>
        </p:grpSpPr>
        <p:pic>
          <p:nvPicPr>
            <p:cNvPr id="160" name="Picture 5" descr=""/>
            <p:cNvPicPr/>
            <p:nvPr/>
          </p:nvPicPr>
          <p:blipFill>
            <a:blip r:embed="rId4"/>
            <a:stretch/>
          </p:blipFill>
          <p:spPr>
            <a:xfrm>
              <a:off x="5361120" y="2565360"/>
              <a:ext cx="165888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Ellipse 13"/>
            <p:cNvSpPr/>
            <p:nvPr/>
          </p:nvSpPr>
          <p:spPr>
            <a:xfrm>
              <a:off x="5364000" y="2997000"/>
              <a:ext cx="36036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ZoneTexte 15"/>
          <p:cNvSpPr/>
          <p:nvPr/>
        </p:nvSpPr>
        <p:spPr>
          <a:xfrm>
            <a:off x="2606400" y="33577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Tahoma"/>
              </a:rPr>
              <a:t>1415MH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ZoneTexte 16"/>
          <p:cNvSpPr/>
          <p:nvPr/>
        </p:nvSpPr>
        <p:spPr>
          <a:xfrm>
            <a:off x="4478760" y="1557360"/>
            <a:ext cx="452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is le Soleil n’est pas facile à analyse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« disque » ~ Beam  (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collec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~ 4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+ Flux change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Chasse aux radar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96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5400" y="1440000"/>
            <a:ext cx="4332240" cy="499104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3"/>
          <p:cNvSpPr/>
          <p:nvPr/>
        </p:nvSpPr>
        <p:spPr>
          <a:xfrm>
            <a:off x="2014920" y="18446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se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ZoneTexte 4"/>
          <p:cNvSpPr/>
          <p:nvPr/>
        </p:nvSpPr>
        <p:spPr>
          <a:xfrm>
            <a:off x="1693440" y="2421000"/>
            <a:ext cx="17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Raie FPGA 125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Symbol"/>
                <a:ea typeface="Symbol"/>
              </a:rPr>
              <a:t></a:t>
            </a: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Raie @ 1375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46440" y="1413000"/>
            <a:ext cx="4489560" cy="5013360"/>
          </a:xfrm>
          <a:prstGeom prst="rect">
            <a:avLst/>
          </a:prstGeom>
          <a:ln w="0">
            <a:noFill/>
          </a:ln>
        </p:spPr>
      </p:pic>
      <p:sp>
        <p:nvSpPr>
          <p:cNvPr id="171" name="ZoneTexte 6"/>
          <p:cNvSpPr/>
          <p:nvPr/>
        </p:nvSpPr>
        <p:spPr>
          <a:xfrm>
            <a:off x="5572080" y="270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+ OL/mixer + 7m câ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ZoneTexte 8"/>
          <p:cNvSpPr/>
          <p:nvPr/>
        </p:nvSpPr>
        <p:spPr>
          <a:xfrm>
            <a:off x="5650920" y="4221000"/>
            <a:ext cx="2745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Oscillations: adaptation mixer-câ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Raie: 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564960" y="1159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-OptX21cm/11.02.1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ON2: qq résultats « so far » depuis le 20 Sept.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éca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lectro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ON2-nex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q points de comparai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085080" cy="335628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2"/>
          <p:cNvSpPr/>
          <p:nvPr/>
        </p:nvSpPr>
        <p:spPr>
          <a:xfrm>
            <a:off x="5562360" y="18900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ncay 10 Sept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rcRect l="2275" t="0" r="1135" b="0"/>
          <a:stretch/>
        </p:blipFill>
        <p:spPr>
          <a:xfrm>
            <a:off x="1187280" y="3213000"/>
            <a:ext cx="6121440" cy="357372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4"/>
          <p:cNvSpPr/>
          <p:nvPr/>
        </p:nvSpPr>
        <p:spPr>
          <a:xfrm>
            <a:off x="5707440" y="639288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ncay 18 Fevr.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1010880" y="3213000"/>
            <a:ext cx="65250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paraboles aussi fragile soient-elles ont tenu bon l’h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rci François…. Et heureusement qu’on les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PAON2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539640" y="580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puis les test à Meudon on a des problèmes d’oscillations très prononcé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es oscillations sont d’amplitudes bien supérieures à celles de HICluster, et de peak-to-peak ~10MHz différent de HICluster.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Banc de Tests @ L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012440" y="11592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5668920" cy="464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737080" cy="20844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8"/>
          <p:cNvSpPr/>
          <p:nvPr/>
        </p:nvSpPr>
        <p:spPr>
          <a:xfrm>
            <a:off x="2837880" y="16286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9 Fev. 13 @ 14h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489560" cy="50133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6"/>
          <p:cNvSpPr/>
          <p:nvPr/>
        </p:nvSpPr>
        <p:spPr>
          <a:xfrm>
            <a:off x="2933640" y="270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+ OL/mixer + 7m câ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ZoneTexte 8"/>
          <p:cNvSpPr/>
          <p:nvPr/>
        </p:nvSpPr>
        <p:spPr>
          <a:xfrm>
            <a:off x="3012840" y="4221000"/>
            <a:ext cx="2745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Oscillations: adaptation mixer-câ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Raie: 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564960" y="1159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-OptX21cm/11.02.1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Agilent 8648B"/>
          <p:cNvPicPr/>
          <p:nvPr/>
        </p:nvPicPr>
        <p:blipFill>
          <a:blip r:embed="rId1"/>
          <a:stretch/>
        </p:blipFill>
        <p:spPr>
          <a:xfrm>
            <a:off x="5651640" y="148428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2884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124000" y="3284640"/>
            <a:ext cx="4781520" cy="317340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5"/>
          <p:cNvSpPr/>
          <p:nvPr/>
        </p:nvSpPr>
        <p:spPr>
          <a:xfrm>
            <a:off x="1292760" y="25653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OL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L synthétis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223200" y="43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OL/mixer+A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oneTexte 7"/>
          <p:cNvSpPr/>
          <p:nvPr/>
        </p:nvSpPr>
        <p:spPr>
          <a:xfrm>
            <a:off x="5376600" y="11253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ynthé Agilent: 1250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oneTexte 8"/>
          <p:cNvSpPr/>
          <p:nvPr/>
        </p:nvSpPr>
        <p:spPr>
          <a:xfrm>
            <a:off x="2771640" y="357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Suppression de la quasi-totalité des raie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337080" y="115920"/>
            <a:ext cx="27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-OptX21cm/19.02.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ZoneTexte 10"/>
          <p:cNvSpPr/>
          <p:nvPr/>
        </p:nvSpPr>
        <p:spPr>
          <a:xfrm>
            <a:off x="5981040" y="6581880"/>
            <a:ext cx="315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385MHz: intermittence… blindage moyen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8000" y="2193840"/>
            <a:ext cx="4608360" cy="1882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7085520" y="18900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ZoneTexte 4"/>
          <p:cNvSpPr/>
          <p:nvPr/>
        </p:nvSpPr>
        <p:spPr>
          <a:xfrm>
            <a:off x="162000" y="1763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gA 23/11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076720" y="4460760"/>
            <a:ext cx="2087640" cy="199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e 16"/>
          <p:cNvGrpSpPr/>
          <p:nvPr/>
        </p:nvGrpSpPr>
        <p:grpSpPr>
          <a:xfrm>
            <a:off x="34920" y="4292640"/>
            <a:ext cx="5257800" cy="2195640"/>
            <a:chOff x="34920" y="4292640"/>
            <a:chExt cx="5257800" cy="2195640"/>
          </a:xfrm>
        </p:grpSpPr>
        <p:pic>
          <p:nvPicPr>
            <p:cNvPr id="119" name="Picture 3" descr=""/>
            <p:cNvPicPr/>
            <p:nvPr/>
          </p:nvPicPr>
          <p:blipFill>
            <a:blip r:embed="rId3"/>
            <a:stretch/>
          </p:blipFill>
          <p:spPr>
            <a:xfrm>
              <a:off x="34920" y="4292640"/>
              <a:ext cx="525780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ZoneTexte 7"/>
            <p:cNvSpPr/>
            <p:nvPr/>
          </p:nvSpPr>
          <p:spPr>
            <a:xfrm>
              <a:off x="1013040" y="4571640"/>
              <a:ext cx="117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2060"/>
                  </a:solidFill>
                  <a:latin typeface="Tahoma"/>
                </a:rPr>
                <a:t>normalis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ccolade fermante 8"/>
            <p:cNvSpPr/>
            <p:nvPr/>
          </p:nvSpPr>
          <p:spPr>
            <a:xfrm rot="5400000">
              <a:off x="3494520" y="4491720"/>
              <a:ext cx="279720" cy="267084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8280 h 2670840"/>
                <a:gd name="textAreaBottom" fmla="*/ 2662560 h 267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Flèche droite 9"/>
          <p:cNvSpPr/>
          <p:nvPr/>
        </p:nvSpPr>
        <p:spPr>
          <a:xfrm rot="16200000">
            <a:off x="5904720" y="396936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14"/>
          <p:cNvGrpSpPr/>
          <p:nvPr/>
        </p:nvGrpSpPr>
        <p:grpSpPr>
          <a:xfrm>
            <a:off x="7308720" y="3789360"/>
            <a:ext cx="1685880" cy="719280"/>
            <a:chOff x="7308720" y="3789360"/>
            <a:chExt cx="1685880" cy="719280"/>
          </a:xfrm>
        </p:grpSpPr>
        <p:sp>
          <p:nvSpPr>
            <p:cNvPr id="124" name="Rectangle 12"/>
            <p:cNvSpPr/>
            <p:nvPr/>
          </p:nvSpPr>
          <p:spPr>
            <a:xfrm>
              <a:off x="7308720" y="3789360"/>
              <a:ext cx="165600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5"/>
                <p:cNvSpPr txBox="1"/>
                <p:nvPr/>
              </p:nvSpPr>
              <p:spPr>
                <a:xfrm>
                  <a:off x="7380720" y="3861000"/>
                  <a:ext cx="1613880" cy="58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ys</m:t>
                              </m:r>
                            </m:sub>
                          </m:sSub>
                        </m:num>
                        <m:den>
                          <m:r>
                            <m:t xml:space="preserve">η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75</m:t>
                      </m:r>
                      <m:r>
                        <m:t xml:space="preserve">÷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)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Ellipse 13"/>
            <p:cNvSpPr/>
            <p:nvPr/>
          </p:nvSpPr>
          <p:spPr>
            <a:xfrm>
              <a:off x="7380000" y="4221360"/>
              <a:ext cx="288720" cy="216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24320" cy="239724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17"/>
          <p:cNvSpPr/>
          <p:nvPr/>
        </p:nvSpPr>
        <p:spPr>
          <a:xfrm flipV="1" rot="10800000">
            <a:off x="5805000" y="357300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ZoneTexte 18"/>
          <p:cNvSpPr/>
          <p:nvPr/>
        </p:nvSpPr>
        <p:spPr>
          <a:xfrm>
            <a:off x="8074800" y="458136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1400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Bilan &amp; « what else 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54824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mécanique a rempli son rôle même si on peut l’amélio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’électronique est perfectible même si on a pu faire de l’analys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 l’état pour PAON (et plus crucialement OptX21cm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Adaptation câb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44ff4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4ff44"/>
                </a:solidFill>
                <a:latin typeface="Tahoma"/>
              </a:rPr>
              <a:t>Développement possible: numérisation au pieds des antennes en full streaming en combinant calcul des visibilités sur Uniboard ou « the like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este: étude en situation, en </a:t>
            </a:r>
            <a:r>
              <a:rPr b="0" lang="fr-FR" sz="2400" spc="-1" strike="noStrike">
                <a:solidFill>
                  <a:srgbClr val="44ff44"/>
                </a:solidFill>
                <a:latin typeface="Tahoma"/>
              </a:rPr>
              <a:t>l</a:t>
            </a:r>
            <a:r>
              <a:rPr b="0" lang="fr-FR" sz="2200" spc="-1" strike="noStrike">
                <a:solidFill>
                  <a:srgbClr val="44ff44"/>
                </a:solidFill>
                <a:latin typeface="Tahoma"/>
              </a:rPr>
              <a:t>ongue durée, </a:t>
            </a: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des cross-correlations à multi-parabol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abilité du T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44ff4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4ff44"/>
                </a:solidFill>
                <a:latin typeface="Tahoma"/>
              </a:rPr>
              <a:t>Mini-carte du ceil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, 3-4h/jr, avec une source pour normalisation type Cyg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6 (8) paraboles donnent 15 (28) lignes de bases avec une certaine redondance (~2 à 4) et on peut discuter de la géométrie « optimale 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Mesure indépendante du T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Qq points de comparai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844640"/>
          <a:ext cx="8569440" cy="3505320"/>
        </p:xfrm>
        <a:graphic>
          <a:graphicData uri="http://schemas.openxmlformats.org/drawingml/2006/table">
            <a:tbl>
              <a:tblPr/>
              <a:tblGrid>
                <a:gridCol w="2141640"/>
                <a:gridCol w="2533680"/>
                <a:gridCol w="2111400"/>
                <a:gridCol w="178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 30 kg 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(6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) ou (4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5m 70kg Ha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m 400kg F.R  x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R&amp;D électron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arte Ci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Usage de cornet n&lt;1250M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im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oût Réfl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150€ HT/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814€ HT/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B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ég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Mé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our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anç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anç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Manu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-5 person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 Manitou 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 Manitou 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6"/>
          <p:cNvSpPr/>
          <p:nvPr/>
        </p:nvSpPr>
        <p:spPr>
          <a:xfrm>
            <a:off x="1167120" y="5589720"/>
            <a:ext cx="6746040" cy="3682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JEC PAON/Science/31.05.12 et commentaires par P.C 6/06/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2:43:05Z</dcterms:created>
  <dc:creator>J.E CAMPAGNE</dc:creator>
  <dc:description/>
  <dc:language>en-US</dc:language>
  <cp:lastModifiedBy>J.E CAMPAGNE</cp:lastModifiedBy>
  <dcterms:modified xsi:type="dcterms:W3CDTF">2013-02-28T15:47:13Z</dcterms:modified>
  <cp:revision>107</cp:revision>
  <dc:subject/>
  <dc:title>PAON2 next</dc:title>
</cp:coreProperties>
</file>